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0760" y="15192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304920" y="3809880"/>
            <a:ext cx="6324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120240" y="8759880"/>
            <a:ext cx="21664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840" bIns="4284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rebuchet MS"/>
              </a:rPr>
              <a:t>Pearson Capabilities Presentation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Line 9"/>
          <p:cNvSpPr/>
          <p:nvPr/>
        </p:nvSpPr>
        <p:spPr>
          <a:xfrm>
            <a:off x="0" y="8721720"/>
            <a:ext cx="685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5428080" y="8759880"/>
            <a:ext cx="4564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840" bIns="42840" anchor="t">
            <a:sp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rebuchet MS"/>
              </a:rPr>
              <a:t>2008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5778360" y="8597880"/>
            <a:ext cx="1059120" cy="12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 algn="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7400" spc="-1" strike="noStrike">
                <a:solidFill>
                  <a:srgbClr val="ffffff"/>
                </a:solidFill>
                <a:latin typeface="Trebuchet MS"/>
              </a:rPr>
              <a:t>p</a:t>
            </a:r>
            <a:endParaRPr b="0" lang="en-US" sz="7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20760" y="1522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304920" y="3809880"/>
            <a:ext cx="6324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I’ll begin by summarizing the main topics addressed in my paper and will then walk through a use-case that demonstrates the implementation of a technology enhanced solution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20760" y="1522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304920" y="3809880"/>
            <a:ext cx="6324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rebuchet MS"/>
              </a:rPr>
              <a:t>I believe the rise of online for-profit universities and the fact that tuition increases have dramatically exceeded the core inflation rate are behind the public’s call for increased accountability in U.S. higher education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Trebuchet MS"/>
              </a:rPr>
              <a:t>U.S. higher education governance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rebuchet MS"/>
              </a:rPr>
              <a:t>HE authority resides with state and local governments in the U.S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rebuchet MS"/>
              </a:rPr>
              <a:t>Federal government’s only stick is via federal student aid programs which are regulated via institutions accredited by the regional accreditors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rebuchet MS"/>
              </a:rPr>
              <a:t>The public is demanding that universities define and measure student performance against a published set of student learning outcomes by program and ideally by course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20760" y="1522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304920" y="3809880"/>
            <a:ext cx="6324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1. Peter Ewell is a leading proponent of transition to a focus on learning.  VP Nat’l Ctr for HE Mgmt Systems in Boulder.  Ph.D. from Yale / Barr &amp; Tagg (1995)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2. K12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 NCLB &amp; state level high stakes testing / H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 Broken out by institution type – VSA, U-CAN, and TbD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3. My theory: Traditional institutions in charge of initial self-studies for online, for-profits both demanded (and online could produce) documentation of student achievement against SLOs in course.  Now they’re having to show results themselves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4. Accreditation – Jerry Trapnell, EVP &amp; CAO @ AACSB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 Looking for systematic asmt as compared to institutions who view site visits as an ‘episodic nuisance’.  Use the data you collect to improve C&amp;I!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5. Technology should ease the monitoring and trending of outcome data so faculty can focus on providing performance improvement feedback to students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6. Yes, if the instructional design model integrates assessment into the course development process and teaching cycle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220760" y="1522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304920" y="3809880"/>
            <a:ext cx="6324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Disappearance of the traditional 3 credit college course?  Meet students where they’re at.  Technology allows for individualized learning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04400"/>
            <a:ext cx="8686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290600"/>
            <a:ext cx="86868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3942360"/>
            <a:ext cx="86868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104400"/>
            <a:ext cx="8686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90600"/>
            <a:ext cx="42390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90600"/>
            <a:ext cx="42390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3942360"/>
            <a:ext cx="42390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3942360"/>
            <a:ext cx="42390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104400"/>
            <a:ext cx="8686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290600"/>
            <a:ext cx="279684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290600"/>
            <a:ext cx="279684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290600"/>
            <a:ext cx="279684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3942360"/>
            <a:ext cx="279684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3942360"/>
            <a:ext cx="279684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3942360"/>
            <a:ext cx="279684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104400"/>
            <a:ext cx="8686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28600" y="1290600"/>
            <a:ext cx="8686800" cy="50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04400"/>
            <a:ext cx="8686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290600"/>
            <a:ext cx="868680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04400"/>
            <a:ext cx="8686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290600"/>
            <a:ext cx="423900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0000" y="1290600"/>
            <a:ext cx="423900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104400"/>
            <a:ext cx="8686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28600" y="104400"/>
            <a:ext cx="8686800" cy="30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04400"/>
            <a:ext cx="8686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90600"/>
            <a:ext cx="42390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90600"/>
            <a:ext cx="423900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28600" y="3942360"/>
            <a:ext cx="42390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104400"/>
            <a:ext cx="8686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290600"/>
            <a:ext cx="8686800" cy="50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04400"/>
            <a:ext cx="8686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290600"/>
            <a:ext cx="423900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0000" y="1290600"/>
            <a:ext cx="42390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0000" y="3942360"/>
            <a:ext cx="42390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104400"/>
            <a:ext cx="8686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290600"/>
            <a:ext cx="42390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0" y="1290600"/>
            <a:ext cx="42390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3942360"/>
            <a:ext cx="86868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104400"/>
            <a:ext cx="8686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290600"/>
            <a:ext cx="86868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28600" y="3942360"/>
            <a:ext cx="86868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104400"/>
            <a:ext cx="8686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290600"/>
            <a:ext cx="42390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290600"/>
            <a:ext cx="42390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942360"/>
            <a:ext cx="42390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0000" y="3942360"/>
            <a:ext cx="42390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104400"/>
            <a:ext cx="8686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90600"/>
            <a:ext cx="279684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5840" y="1290600"/>
            <a:ext cx="279684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02720" y="1290600"/>
            <a:ext cx="279684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28600" y="3942360"/>
            <a:ext cx="279684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5840" y="3942360"/>
            <a:ext cx="279684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02720" y="3942360"/>
            <a:ext cx="279684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104400"/>
            <a:ext cx="8686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28600" y="1290600"/>
            <a:ext cx="8686800" cy="50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04400"/>
            <a:ext cx="8686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290600"/>
            <a:ext cx="868680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104400"/>
            <a:ext cx="8686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290600"/>
            <a:ext cx="423900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0000" y="1290600"/>
            <a:ext cx="423900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04400"/>
            <a:ext cx="8686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04400"/>
            <a:ext cx="8686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290600"/>
            <a:ext cx="868680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228600" y="104400"/>
            <a:ext cx="8686800" cy="30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104400"/>
            <a:ext cx="8686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290600"/>
            <a:ext cx="42390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0000" y="1290600"/>
            <a:ext cx="423900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600" y="3942360"/>
            <a:ext cx="42390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04400"/>
            <a:ext cx="8686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290600"/>
            <a:ext cx="423900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0000" y="1290600"/>
            <a:ext cx="42390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80000" y="3942360"/>
            <a:ext cx="42390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104400"/>
            <a:ext cx="8686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290600"/>
            <a:ext cx="42390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0000" y="1290600"/>
            <a:ext cx="42390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28600" y="3942360"/>
            <a:ext cx="86868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104400"/>
            <a:ext cx="8686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290600"/>
            <a:ext cx="86868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8600" y="3942360"/>
            <a:ext cx="86868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104400"/>
            <a:ext cx="8686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290600"/>
            <a:ext cx="42390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0000" y="1290600"/>
            <a:ext cx="42390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28600" y="3942360"/>
            <a:ext cx="42390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80000" y="3942360"/>
            <a:ext cx="42390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104400"/>
            <a:ext cx="8686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90600"/>
            <a:ext cx="279684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165840" y="1290600"/>
            <a:ext cx="279684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02720" y="1290600"/>
            <a:ext cx="279684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228600" y="3942360"/>
            <a:ext cx="279684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165840" y="3942360"/>
            <a:ext cx="279684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102720" y="3942360"/>
            <a:ext cx="279684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104400"/>
            <a:ext cx="8686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28600" y="1290600"/>
            <a:ext cx="8686800" cy="50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104400"/>
            <a:ext cx="8686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290600"/>
            <a:ext cx="868680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04400"/>
            <a:ext cx="8686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290600"/>
            <a:ext cx="423900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290600"/>
            <a:ext cx="423900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104400"/>
            <a:ext cx="8686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290600"/>
            <a:ext cx="423900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0000" y="1290600"/>
            <a:ext cx="423900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104400"/>
            <a:ext cx="8686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28600" y="104400"/>
            <a:ext cx="8686800" cy="30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104400"/>
            <a:ext cx="8686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290600"/>
            <a:ext cx="42390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0000" y="1290600"/>
            <a:ext cx="423900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28600" y="3942360"/>
            <a:ext cx="42390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104400"/>
            <a:ext cx="8686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290600"/>
            <a:ext cx="423900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0000" y="1290600"/>
            <a:ext cx="42390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0000" y="3942360"/>
            <a:ext cx="42390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104400"/>
            <a:ext cx="8686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290600"/>
            <a:ext cx="42390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0000" y="1290600"/>
            <a:ext cx="42390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28600" y="3942360"/>
            <a:ext cx="86868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104400"/>
            <a:ext cx="8686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290600"/>
            <a:ext cx="86868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28600" y="3942360"/>
            <a:ext cx="86868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104400"/>
            <a:ext cx="8686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290600"/>
            <a:ext cx="42390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0000" y="1290600"/>
            <a:ext cx="42390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28600" y="3942360"/>
            <a:ext cx="42390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0000" y="3942360"/>
            <a:ext cx="42390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104400"/>
            <a:ext cx="8686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290600"/>
            <a:ext cx="279684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65840" y="1290600"/>
            <a:ext cx="279684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02720" y="1290600"/>
            <a:ext cx="279684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28600" y="3942360"/>
            <a:ext cx="279684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65840" y="3942360"/>
            <a:ext cx="279684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02720" y="3942360"/>
            <a:ext cx="279684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104400"/>
            <a:ext cx="8686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104400"/>
            <a:ext cx="8686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28600" y="1290600"/>
            <a:ext cx="8686800" cy="50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104400"/>
            <a:ext cx="8686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290600"/>
            <a:ext cx="868680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104400"/>
            <a:ext cx="8686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290600"/>
            <a:ext cx="423900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80000" y="1290600"/>
            <a:ext cx="423900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104400"/>
            <a:ext cx="8686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228600" y="104400"/>
            <a:ext cx="8686800" cy="30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104400"/>
            <a:ext cx="8686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90600"/>
            <a:ext cx="42390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80000" y="1290600"/>
            <a:ext cx="423900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228600" y="3942360"/>
            <a:ext cx="42390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104400"/>
            <a:ext cx="8686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290600"/>
            <a:ext cx="423900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80000" y="1290600"/>
            <a:ext cx="42390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80000" y="3942360"/>
            <a:ext cx="42390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104400"/>
            <a:ext cx="8686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290600"/>
            <a:ext cx="42390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0000" y="1290600"/>
            <a:ext cx="42390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28600" y="3942360"/>
            <a:ext cx="86868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104400"/>
            <a:ext cx="8686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1290600"/>
            <a:ext cx="86868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28600" y="3942360"/>
            <a:ext cx="86868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104400"/>
            <a:ext cx="8686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1290600"/>
            <a:ext cx="42390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0000" y="1290600"/>
            <a:ext cx="42390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28600" y="3942360"/>
            <a:ext cx="42390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80000" y="3942360"/>
            <a:ext cx="42390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104400"/>
            <a:ext cx="8686800" cy="30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104400"/>
            <a:ext cx="8686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1290600"/>
            <a:ext cx="279684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65840" y="1290600"/>
            <a:ext cx="279684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02720" y="1290600"/>
            <a:ext cx="279684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228600" y="3942360"/>
            <a:ext cx="279684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65840" y="3942360"/>
            <a:ext cx="279684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02720" y="3942360"/>
            <a:ext cx="279684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04400"/>
            <a:ext cx="8686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90600"/>
            <a:ext cx="42390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290600"/>
            <a:ext cx="423900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3942360"/>
            <a:ext cx="42390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04400"/>
            <a:ext cx="8686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290600"/>
            <a:ext cx="423900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290600"/>
            <a:ext cx="42390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3942360"/>
            <a:ext cx="42390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104400"/>
            <a:ext cx="8686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290600"/>
            <a:ext cx="42390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290600"/>
            <a:ext cx="42390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3942360"/>
            <a:ext cx="86868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5235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3124"/>
              </a:spcBef>
              <a:buClr>
                <a:srgbClr val="ffffff"/>
              </a:buClr>
              <a:buFont typeface="Wingdings" charset="2"/>
              <a:buChar char="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31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3124"/>
              </a:spcBef>
              <a:buClr>
                <a:srgbClr val="ffffff"/>
              </a:buClr>
              <a:buFont typeface="Trebuchet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3124"/>
              </a:spcBef>
              <a:buClr>
                <a:srgbClr val="ffffff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3124"/>
              </a:spcBef>
              <a:buClr>
                <a:srgbClr val="ffffff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3124"/>
              </a:spcBef>
              <a:buClr>
                <a:srgbClr val="ffffff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Rectangle 20"/>
          <p:cNvSpPr/>
          <p:nvPr/>
        </p:nvSpPr>
        <p:spPr>
          <a:xfrm>
            <a:off x="0" y="0"/>
            <a:ext cx="9144000" cy="12762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28600" y="547560"/>
            <a:ext cx="86868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223040" y="297000"/>
            <a:ext cx="1508040" cy="703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228600" y="1290600"/>
            <a:ext cx="868680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3124"/>
              </a:spcBef>
              <a:buClr>
                <a:srgbClr val="ffffff"/>
              </a:buClr>
              <a:buFont typeface="Wingdings" charset="2"/>
              <a:buChar char="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31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3124"/>
              </a:spcBef>
              <a:buClr>
                <a:srgbClr val="ffffff"/>
              </a:buClr>
              <a:buFont typeface="Trebuchet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3124"/>
              </a:spcBef>
              <a:buClr>
                <a:srgbClr val="ffffff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3124"/>
              </a:spcBef>
              <a:buClr>
                <a:srgbClr val="ffffff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3124"/>
              </a:spcBef>
              <a:buClr>
                <a:srgbClr val="ffffff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0" y="0"/>
            <a:ext cx="9144000" cy="12762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228600" y="104400"/>
            <a:ext cx="8686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223040" y="297000"/>
            <a:ext cx="1508040" cy="703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5"/>
          <p:cNvSpPr/>
          <p:nvPr/>
        </p:nvSpPr>
        <p:spPr>
          <a:xfrm>
            <a:off x="0" y="3276720"/>
            <a:ext cx="9144000" cy="3581280"/>
          </a:xfrm>
          <a:prstGeom prst="rect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304920" y="106200"/>
            <a:ext cx="868680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700" spc="-1" strike="noStrike">
                <a:solidFill>
                  <a:srgbClr val="0080c1"/>
                </a:solidFill>
                <a:latin typeface="Trebuchet MS"/>
              </a:rPr>
              <a:t>?</a:t>
            </a:r>
            <a:endParaRPr b="0" lang="en-US" sz="277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228600" y="15235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3124"/>
              </a:spcBef>
              <a:buClr>
                <a:srgbClr val="ffffff"/>
              </a:buClr>
              <a:buFont typeface="Wingdings" charset="2"/>
              <a:buChar char="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31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3124"/>
              </a:spcBef>
              <a:buClr>
                <a:srgbClr val="ffffff"/>
              </a:buClr>
              <a:buFont typeface="Trebuchet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3124"/>
              </a:spcBef>
              <a:buClr>
                <a:srgbClr val="ffffff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3124"/>
              </a:spcBef>
              <a:buClr>
                <a:srgbClr val="ffffff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3124"/>
              </a:spcBef>
              <a:buClr>
                <a:srgbClr val="ffffff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228600" y="547560"/>
            <a:ext cx="86868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7410600" y="5867280"/>
            <a:ext cx="1508040" cy="847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0" y="3213000"/>
            <a:ext cx="9144000" cy="1422360"/>
          </a:xfrm>
          <a:prstGeom prst="rect">
            <a:avLst/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22" name="Picture 5" descr="iphone.png"/>
          <p:cNvPicPr/>
          <p:nvPr/>
        </p:nvPicPr>
        <p:blipFill>
          <a:blip r:embed="rId3"/>
          <a:stretch/>
        </p:blipFill>
        <p:spPr>
          <a:xfrm>
            <a:off x="0" y="1841400"/>
            <a:ext cx="3873600" cy="50166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"/>
          <p:cNvSpPr/>
          <p:nvPr/>
        </p:nvSpPr>
        <p:spPr>
          <a:xfrm>
            <a:off x="0" y="5918040"/>
            <a:ext cx="9144000" cy="939960"/>
          </a:xfrm>
          <a:prstGeom prst="rect">
            <a:avLst/>
          </a:prstGeom>
          <a:gradFill rotWithShape="0">
            <a:gsLst>
              <a:gs pos="0">
                <a:srgbClr val="000000">
                  <a:alpha val="15294"/>
                </a:srgbClr>
              </a:gs>
              <a:gs pos="100000">
                <a:srgbClr val="0000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24" name="Picture 7" descr="Group 6_pptX"/>
          <p:cNvPicPr/>
          <p:nvPr/>
        </p:nvPicPr>
        <p:blipFill>
          <a:blip r:embed="rId4"/>
          <a:stretch/>
        </p:blipFill>
        <p:spPr>
          <a:xfrm>
            <a:off x="1409760" y="3780000"/>
            <a:ext cx="1596960" cy="4618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228600" y="15235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3124"/>
              </a:spcBef>
              <a:buClr>
                <a:srgbClr val="ffffff"/>
              </a:buClr>
              <a:buFont typeface="Wingdings" charset="2"/>
              <a:buChar char="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31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3124"/>
              </a:spcBef>
              <a:buClr>
                <a:srgbClr val="ffffff"/>
              </a:buClr>
              <a:buFont typeface="Trebuchet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3124"/>
              </a:spcBef>
              <a:buClr>
                <a:srgbClr val="ffffff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3124"/>
              </a:spcBef>
              <a:buClr>
                <a:srgbClr val="ffffff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3124"/>
              </a:spcBef>
              <a:buClr>
                <a:srgbClr val="ffffff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228600" y="547560"/>
            <a:ext cx="86868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7223040" y="297000"/>
            <a:ext cx="1508040" cy="703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0" y="3213000"/>
            <a:ext cx="9144000" cy="1422360"/>
          </a:xfrm>
          <a:prstGeom prst="rect">
            <a:avLst/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0" y="5918040"/>
            <a:ext cx="9144000" cy="939960"/>
          </a:xfrm>
          <a:prstGeom prst="rect">
            <a:avLst/>
          </a:prstGeom>
          <a:gradFill rotWithShape="0">
            <a:gsLst>
              <a:gs pos="0">
                <a:srgbClr val="000000">
                  <a:alpha val="15294"/>
                </a:srgbClr>
              </a:gs>
              <a:gs pos="100000">
                <a:srgbClr val="0000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228600" y="1044720"/>
            <a:ext cx="8686800" cy="52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3124"/>
              </a:spcBef>
              <a:buClr>
                <a:srgbClr val="ffffff"/>
              </a:buClr>
              <a:buFont typeface="Wingdings" charset="2"/>
              <a:buChar char="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31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3124"/>
              </a:spcBef>
              <a:buClr>
                <a:srgbClr val="ffffff"/>
              </a:buClr>
              <a:buFont typeface="Trebuchet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3124"/>
              </a:spcBef>
              <a:buClr>
                <a:srgbClr val="ffffff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3124"/>
              </a:spcBef>
              <a:buClr>
                <a:srgbClr val="ffffff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3124"/>
              </a:spcBef>
              <a:buClr>
                <a:srgbClr val="ffffff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228600" y="90360"/>
            <a:ext cx="86868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7223040" y="297000"/>
            <a:ext cx="1508040" cy="703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90520" y="1568520"/>
            <a:ext cx="6834240" cy="10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701"/>
                </a:solidFill>
                <a:latin typeface="Trebuchet MS"/>
              </a:rPr>
              <a:t>The Education Projec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"/>
          <p:cNvSpPr/>
          <p:nvPr/>
        </p:nvSpPr>
        <p:spPr>
          <a:xfrm>
            <a:off x="3041640" y="5270400"/>
            <a:ext cx="314640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Trebuchet MS"/>
              </a:rPr>
              <a:t>Manama, Bahrain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Trebuchet MS"/>
              </a:rPr>
              <a:t>16 October 2009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417600" y="3033720"/>
            <a:ext cx="850104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Technology Enhanced Outcom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Managemen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104400"/>
            <a:ext cx="8686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>
                <a:solidFill>
                  <a:srgbClr val="ffffff"/>
                </a:solidFill>
                <a:latin typeface="Trebuchet MS"/>
              </a:rPr>
              <a:t>Why are learning outcomes important?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290240"/>
            <a:ext cx="8686800" cy="55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Source: Bureau of Labor Statistic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374760" y="1390680"/>
            <a:ext cx="4073400" cy="45435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5124600" y="5172120"/>
            <a:ext cx="3614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USA Today (11/1/2006).  Low inflation rate? Some consumers beg to differ. Retrieved June 30, 2009 from http://www.usatoday.com/money/economy/inflation/2006-10-31-inflation-usat_x.htm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400" y="309240"/>
            <a:ext cx="6612120" cy="69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Assessment and Accountability</a:t>
            </a:r>
            <a:br>
              <a:rPr sz="2600"/>
            </a:br>
            <a:r>
              <a:rPr b="0" lang="en-US" sz="2600" spc="-1" strike="noStrike">
                <a:solidFill>
                  <a:srgbClr val="ffe701"/>
                </a:solidFill>
                <a:latin typeface="Trebuchet MS"/>
              </a:rPr>
              <a:t>  Two important paradigm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244440" y="1658880"/>
            <a:ext cx="407664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701"/>
                </a:solidFill>
                <a:latin typeface="Trebuchet MS"/>
              </a:rPr>
              <a:t>Comparability vs </a:t>
            </a: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Quality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e701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ffe701"/>
                </a:solidFill>
                <a:latin typeface="Trebuchet MS"/>
              </a:rPr>
              <a:t>Inter-institutional comparability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Trebuchet MS"/>
              </a:rPr>
              <a:t>   </a:t>
            </a:r>
            <a:r>
              <a:rPr b="0" lang="en-US" sz="2000" spc="-1" strike="noStrike">
                <a:solidFill>
                  <a:srgbClr val="ffe701"/>
                </a:solidFill>
                <a:latin typeface="Trebuchet MS"/>
              </a:rPr>
              <a:t>with a high-stakes quantitativ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Trebuchet MS"/>
              </a:rPr>
              <a:t>   </a:t>
            </a:r>
            <a:r>
              <a:rPr b="0" lang="en-US" sz="2000" spc="-1" strike="noStrike">
                <a:solidFill>
                  <a:srgbClr val="ffe701"/>
                </a:solidFill>
                <a:latin typeface="Trebuchet MS"/>
              </a:rPr>
              <a:t>measur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Multiple measure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ombination of qualitativ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and quantitative data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4670280" y="1658880"/>
            <a:ext cx="4473720" cy="38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701"/>
                </a:solidFill>
                <a:latin typeface="Trebuchet MS"/>
              </a:rPr>
              <a:t>Centralized vs </a:t>
            </a: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Decentralized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e701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ffe701"/>
                </a:solidFill>
                <a:latin typeface="Trebuchet MS"/>
              </a:rPr>
              <a:t>Common learning outcomes &amp;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Trebuchet MS"/>
              </a:rPr>
              <a:t>   </a:t>
            </a:r>
            <a:r>
              <a:rPr b="0" lang="en-US" sz="2000" spc="-1" strike="noStrike">
                <a:solidFill>
                  <a:srgbClr val="ffe701"/>
                </a:solidFill>
                <a:latin typeface="Trebuchet MS"/>
              </a:rPr>
              <a:t>content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e701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ffe701"/>
                </a:solidFill>
                <a:latin typeface="Trebuchet MS"/>
              </a:rPr>
              <a:t>Tiered faculty structur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e701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aculty own their conten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Difficult to achieve common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learning outcome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" y="104400"/>
            <a:ext cx="8686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The Assessment Landscape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28600" y="1390680"/>
            <a:ext cx="868680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124"/>
              </a:spcBef>
              <a:buClr>
                <a:srgbClr val="ffffff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Dialectical tension between teaching and learning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3124"/>
              </a:spcBef>
              <a:buClr>
                <a:srgbClr val="ffffff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Accountability systems in the U.S.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3124"/>
              </a:spcBef>
              <a:buClr>
                <a:srgbClr val="ffffff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Trebuchet MS"/>
              </a:rPr>
              <a:t>Discussion point: eLearning’s impact in this spac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628560" indent="-228600"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e701"/>
                </a:solidFill>
                <a:latin typeface="Trebuchet MS"/>
              </a:rPr>
              <a:t>Regional differences / K-12 vs. Higher Ed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3124"/>
              </a:spcBef>
              <a:buClr>
                <a:srgbClr val="ffffff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Accreditors are looking for a culture of assessmen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3124"/>
              </a:spcBef>
              <a:buClr>
                <a:srgbClr val="ffffff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Role of technology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3124"/>
              </a:spcBef>
              <a:buClr>
                <a:srgbClr val="ffffff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Trebuchet MS"/>
              </a:rPr>
              <a:t>Discussion point:  Can this technology be integrated into a low-cost multinational effort?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104400"/>
            <a:ext cx="868680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LO Software Features Overview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82760" y="1353600"/>
            <a:ext cx="7454880" cy="50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Trebuchet MS"/>
              </a:rPr>
              <a:t>Setup and Configuration Option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entralized institutional learning statement repository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Ability to link outcomes in repository to course content / assignment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Outcome roll-up between levels in your institutional hierarchy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Outcome rubric development too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ompliance support for institutional &amp; professional program accreditation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104400"/>
            <a:ext cx="868680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LO Software Features Overview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51040" y="1366920"/>
            <a:ext cx="713736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Trebuchet MS"/>
              </a:rPr>
              <a:t>Reporting and Analysis Option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urriculum mapping tool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entralized access to student artifacts with links to outcome data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Outcome reporting and analytics engine with flat file export capability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Role-based reporting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Workflow engine to track conclusions &amp; adjustments to curriculum &amp; instruction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104400"/>
            <a:ext cx="8686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The Future of Assessmen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680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374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ompetency based learning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374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daptive learning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240" y="146160"/>
            <a:ext cx="68295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Data driven decisions to impact improvements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in curriculum, instruction, &amp; student learning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295200" y="1359000"/>
            <a:ext cx="876312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315720"/>
            <a:ext cx="861048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fffff"/>
                </a:solidFill>
                <a:latin typeface="Trebuchet MS"/>
              </a:rPr>
              <a:t>Contact Information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85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lvl="1" marL="285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lvl="1" marL="285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lvl="1" marL="285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"/>
          <p:cNvSpPr/>
          <p:nvPr/>
        </p:nvSpPr>
        <p:spPr>
          <a:xfrm>
            <a:off x="944640" y="1809720"/>
            <a:ext cx="728820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03e"/>
                </a:solidFill>
                <a:latin typeface="Trebuchet MS"/>
              </a:rPr>
              <a:t>   </a:t>
            </a:r>
            <a:r>
              <a:rPr b="1" lang="en-US" sz="2400" spc="-1" strike="noStrike">
                <a:solidFill>
                  <a:srgbClr val="eec03e"/>
                </a:solidFill>
                <a:latin typeface="Trebuchet MS"/>
              </a:rPr>
              <a:t>Brian McKay Epp – briane@ecollege.com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rebuchet MS"/>
              </a:rPr>
              <a:t>    </a:t>
            </a:r>
            <a:r>
              <a:rPr b="1" i="1" lang="en-US" sz="2000" spc="-1" strike="noStrike">
                <a:solidFill>
                  <a:srgbClr val="ffffff"/>
                </a:solidFill>
                <a:latin typeface="Trebuchet MS"/>
              </a:rPr>
              <a:t>Higher Education Assessment Consultan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rebuchet MS"/>
              </a:rPr>
              <a:t>    </a:t>
            </a:r>
            <a:r>
              <a:rPr b="1" i="1" lang="en-US" sz="2000" spc="-1" strike="noStrike">
                <a:solidFill>
                  <a:srgbClr val="ffffff"/>
                </a:solidFill>
                <a:latin typeface="Trebuchet MS"/>
              </a:rPr>
              <a:t>Pearson eColleg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03e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12:43:45Z</dcterms:created>
  <dc:creator>Emily Thompson</dc:creator>
  <dc:description>212 641 2474</dc:description>
  <dc:language>en-US</dc:language>
  <cp:lastModifiedBy>BrianE</cp:lastModifiedBy>
  <dcterms:modified xsi:type="dcterms:W3CDTF">2009-10-13T18:21:59Z</dcterms:modified>
  <cp:revision>1142</cp:revision>
  <dc:subject/>
  <dc:title>Slide 1</dc:title>
</cp:coreProperties>
</file>